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1FE9-37B8-4DAB-B17C-71B099D86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CE80-9290-460A-A9BF-723B764BD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CBB1-BE63-43BB-87AB-2637CD33D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ED7E-6C55-452F-89E7-391F87BB5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6007-B4CB-458A-9980-A9AC49AD8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84DA-67A7-4551-BE0D-673195BFC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qualities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that underpin a leader’s ability to improve teaching and learning outc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Manaakitanga – leading with moral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Pono – having self-beli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ko- being a lear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whinatanga – guiding and supp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02D2-B392-448F-948C-7D98D9628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eracy leaders fill in the questionnaire. What are the challenges for each of them? Construct learning intentions from these challe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7689-56F3-42FE-BA3E-4DDC12B8F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handout on accessing NZQA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Maths example and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048B-B11F-4F5B-B34B-333072157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0FE4-5E05-4087-879C-5E9427E96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6AAE-8598-4C1C-A131-C5127A8D0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1813-49BC-4BEC-8976-C9DD41279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B85A-7188-4D28-B4CB-888243CC0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5492-3CD9-4BCA-AF3F-DCA951251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81AA-E52F-40FF-B61C-582D3895A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DB3F-97AF-482A-8DD0-5CDC068EB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6C3D-41EE-443F-9F31-6863226C6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8AC3-68FC-4A8E-AC0A-8FBF0A705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22D2-CFBA-4DCD-9ED1-22074C9DD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6FE4-B26F-4688-82D3-535D9066F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382B-C9AE-4CA0-B832-C39033EB7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1"/>
          <p:cNvSpPr/>
          <p:nvPr/>
        </p:nvSpPr>
        <p:spPr>
          <a:xfrm>
            <a:off x="0" y="0"/>
            <a:ext cx="5486400" cy="914400"/>
          </a:xfrm>
          <a:prstGeom prst="rect">
            <a:avLst/>
          </a:prstGeom>
          <a:solidFill>
            <a:srgbClr val="daa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9" descr="6835_powerpoint_v2"/>
          <p:cNvPicPr/>
          <p:nvPr/>
        </p:nvPicPr>
        <p:blipFill>
          <a:blip r:embed="rId2"/>
          <a:stretch/>
        </p:blipFill>
        <p:spPr>
          <a:xfrm>
            <a:off x="0" y="0"/>
            <a:ext cx="9155160" cy="106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logos-joint-bw-lowres.jpg"/>
          <p:cNvPicPr/>
          <p:nvPr/>
        </p:nvPicPr>
        <p:blipFill>
          <a:blip r:embed="rId3"/>
          <a:stretch/>
        </p:blipFill>
        <p:spPr>
          <a:xfrm>
            <a:off x="5638680" y="228600"/>
            <a:ext cx="2876760" cy="72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5497560" y="5319720"/>
            <a:ext cx="3646440" cy="1614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3" descr="FOED Logo"/>
          <p:cNvPicPr/>
          <p:nvPr/>
        </p:nvPicPr>
        <p:blipFill>
          <a:blip r:embed="rId4"/>
          <a:stretch/>
        </p:blipFill>
        <p:spPr>
          <a:xfrm>
            <a:off x="7010280" y="5943600"/>
            <a:ext cx="1859040" cy="604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e role of the literacy leader in subject specific literac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880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ngare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 November 20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tage 3: Subject specific literacy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fferent subjects have different ways of presenting knowledge, ideas, values and different ways of reading tex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Maths words such as “a” , “the”, “in”, “on” may be impor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History the writer and publication date of a text are impor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ome advantages of this approach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achers can focus on specific literacy needs of their su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D can be tailored for each su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achers can measure improvement in student achievement through their subjec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s understand that the literacy demands are different in each su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ome problems with this approach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teracy leaders have a different role in facilitating subject specific liter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achers need to have an understanding of both the content and literacy requirements of their subjec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s may be resistant to developing subject specific literacy (proficient readers may need to develop new skill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lace of new texts needs to be conside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What the SSA contract says about literacy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ntract focuses on developing teachers’ literacy and language knowledge and skills to attend to the language demand in each learning ar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ject specialists have a collective responsibility to develop (students’) literacy and language knowledge, skills and competencies within and across learning areas (focus areas 11-13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rt 2: Literacy leaders as middle leaders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1460520" y="2057400"/>
            <a:ext cx="622296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Literacy leader as a middle leader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your area of greatest challeng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onversations around data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packing asTTle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packing NCEA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rt 3: Engaging with subject specific literacy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cial Scie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th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rt 4: How to put it all into practic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to get into dept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to develop support across the school (literacy committee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to develop sustainable chang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Why is literacy so important?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lliteracy costs NZ an estimated $3 billion a yea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"Often, the end result of low literacy levels is trapping people in a cycle of poverty, poor health, limited employment opportunities, reduced income potential and low productivity in businesses.” (Andrew Ka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Learning intentions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Verdana"/>
              </a:rPr>
              <a:t>Literacy Leaders will hav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Verdana"/>
              </a:rPr>
              <a:t>Developed their awareness of the literacy and language demands inherent in each learning area at NCEA levels 1-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Verdana"/>
              </a:rPr>
              <a:t>Reviewed their capacity to use data effectively to determine students’ literacy and language strengths and needs at senior lev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Verdana"/>
              </a:rPr>
              <a:t>Focused their attention on the literacy and language needs of priority learners: Māori, Pasifika, and learners with special educational need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Verdana"/>
              </a:rPr>
              <a:t>Reviewed and developed their ability to support middle leaders to respond effectively to the identified literacy and language needs of stud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Visit our website for the resources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leadingliteracynz.wikispaces.com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rt 1: An overview of secondary literacy in NZ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tage 1: Literacy across the curriculum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emphasis on using literacy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strategies across the curriculum (e.g learning through languag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ategies such as reciprocal teaching, KWL, vocab jumble became popul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teracy seen as skills-ba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ome advantages of this approach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teachers were positioned as teachers of liter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teracy became a focus area in secondary scho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teachers incorporated literacy strategies in ways that improved student achiev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ome problems with this approach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ategies were difficult to fit into some subject are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teachers did not use the strategies consistent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strategies were taught as isolated skill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tage 2: SLP 2009-11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focus on upskilling the literacy leader and creating learning communities of literacy lead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teracy leader worked with a focus group of teachers, often around the literacy needs of a specific cla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idence-based, often still an emphasis on strategies but subject specific literacy also conside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ome advantages of this approach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was funding for the literacy leader role and for P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ole of the literacy leader was emphasi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teracy leaders across schools formed a national and regional learning 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required an examination of data to measure su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around a specific class often gained more engagement by teac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ome problems with this approach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ntended “trickle down effect” sometimes did not eventu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ffectiveness was strongly dependent on the literacy lea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teachers did not use the strategies consistent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strategies were taught as isolated sk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ata used to measure success was focussed on one area (Read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9:47:52Z</dcterms:created>
  <dc:creator>Studio 4</dc:creator>
  <dc:description/>
  <dc:language>en-US</dc:language>
  <cp:lastModifiedBy>Irene Andersen</cp:lastModifiedBy>
  <cp:lastPrinted>2012-11-20T01:26:44Z</cp:lastPrinted>
  <dcterms:modified xsi:type="dcterms:W3CDTF">2012-11-20T01:32:23Z</dcterms:modified>
  <cp:revision>38</cp:revision>
  <dc:subject/>
  <dc:title>PowerPoint Presentation</dc:title>
</cp:coreProperties>
</file>